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B16-5527-46A7-8EF7-2E7D317D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0BF-494F-4F02-9B11-4036446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F78-0191-4CB8-9B48-ADA97678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C7E-C993-411D-9AAE-66808E5F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763-5A6C-4084-A927-1DBD56CB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E5C-BE47-4EBF-830C-6A990D37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30C-077C-4D94-866D-A4230EBD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D27-BFC2-4A4B-B4E4-7C45B6CC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472-179C-4421-9FCE-91530E3C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479-2A24-4D79-AA71-99C4A7E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118-18E1-40E0-BB39-B0C991A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87D-0AA7-4FC9-9DCE-B5A34C7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835-E578-47C5-AF74-28066B08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nedictinescat.com/montserrat" TargetMode="External"/><Relationship Id="rId2" Type="http://schemas.openxmlformats.org/officeDocument/2006/relationships/audio" Target="../media/PLUGI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resized_SB boi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VV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200" y="2708280"/>
            <a:ext cx="72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IL REGNO È IN MEZZO A N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0" y="328464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n avere paura piccolo greg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501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FIGLIO, QUELLO CHE E’ MIO E’ TU</a:t>
            </a:r>
            <a:r>
              <a:rPr b="1" lang="ca-E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vangelo di Lu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1187280" y="1052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VV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0" y="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vangelo di Lu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2637000"/>
            <a:ext cx="72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IL REGNO È IN MEZZO A N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5"/>
          <p:cNvSpPr txBox="1"/>
          <p:nvPr/>
        </p:nvSpPr>
        <p:spPr>
          <a:xfrm>
            <a:off x="216000" y="3500280"/>
            <a:ext cx="82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n avere paura piccolo greg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1" name="WordArt 16"/>
          <p:cNvSpPr txBox="1"/>
          <p:nvPr/>
        </p:nvSpPr>
        <p:spPr>
          <a:xfrm>
            <a:off x="1547640" y="558972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angelo di Lu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7210800" y="0"/>
            <a:ext cx="17978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Ann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12" dur="10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8" descr="cedro5"/>
          <p:cNvPicPr/>
          <p:nvPr/>
        </p:nvPicPr>
        <p:blipFill>
          <a:blip r:embed="rId1"/>
          <a:stretch/>
        </p:blipFill>
        <p:spPr>
          <a:xfrm>
            <a:off x="900000" y="476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627280" y="5445000"/>
            <a:ext cx="6337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Fino a quando “l’inverno diventi primavera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79280" y="189000"/>
            <a:ext cx="777744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Vi ho acquistati per  la liber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50920" y="260280"/>
            <a:ext cx="8569080" cy="7637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»</a:t>
            </a:r>
            <a:r>
              <a:rPr b="1" lang="it-IT" sz="4500" spc="-1" strike="noStrike">
                <a:solidFill>
                  <a:srgbClr val="ffffff"/>
                </a:solidFill>
                <a:latin typeface="Arial Unicode MS"/>
              </a:rPr>
              <a:t>State attenti a voi stessi, che i vostri cuori non si appesantiscano in dissipazioni, ubriachezze e affanni della vita e che quel giorno non vi piombi addosso all’improvviso; come un laccio infatti esso si abbatterà sopra tutti coloro che abitano sulla faccia di tutta la terra.</a:t>
            </a:r>
            <a:r>
              <a:rPr b="0" lang="it-IT" sz="45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33"/>
          <p:cNvGrpSpPr/>
          <p:nvPr/>
        </p:nvGrpSpPr>
        <p:grpSpPr>
          <a:xfrm>
            <a:off x="755640" y="189000"/>
            <a:ext cx="7920000" cy="4581360"/>
            <a:chOff x="755640" y="189000"/>
            <a:chExt cx="7920000" cy="4581360"/>
          </a:xfrm>
        </p:grpSpPr>
        <p:pic>
          <p:nvPicPr>
            <p:cNvPr id="87" name="Picture 31" descr="monedest"/>
            <p:cNvPicPr/>
            <p:nvPr/>
          </p:nvPicPr>
          <p:blipFill>
            <a:blip r:embed="rId1"/>
            <a:stretch/>
          </p:blipFill>
          <p:spPr>
            <a:xfrm>
              <a:off x="971640" y="262080"/>
              <a:ext cx="7569000" cy="45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755640" y="189000"/>
              <a:ext cx="7920000" cy="136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4"/>
          <p:cNvSpPr/>
          <p:nvPr/>
        </p:nvSpPr>
        <p:spPr>
          <a:xfrm>
            <a:off x="179280" y="189000"/>
            <a:ext cx="6624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Non vi appesantite con affari che rendono schiav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63640" y="5013360"/>
            <a:ext cx="7309080" cy="16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o desse tutte le ricchezze della sua casa in cambio dell'amore, non ne avrebbe che dispregio.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(Ct 8,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2843280" y="1628640"/>
            <a:ext cx="5653080" cy="5508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onete del tempo di Ges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549360"/>
            <a:ext cx="835344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500" spc="-1" strike="noStrike">
                <a:solidFill>
                  <a:srgbClr val="ffffff"/>
                </a:solidFill>
                <a:latin typeface="Arial Unicode MS"/>
              </a:rPr>
              <a:t>Vegliate in ogni momento pregando, perché abbiate la forza di sfuggire a tutto ciò che sta per accadere e di comparire davanti al Figlio dell’uomo».</a:t>
            </a:r>
            <a:r>
              <a:rPr b="0" lang="it-IT" sz="55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1" descr="127AssalonneBig"/>
          <p:cNvPicPr/>
          <p:nvPr/>
        </p:nvPicPr>
        <p:blipFill>
          <a:blip r:embed="rId1"/>
          <a:stretch/>
        </p:blipFill>
        <p:spPr>
          <a:xfrm>
            <a:off x="826920" y="426960"/>
            <a:ext cx="7417080" cy="5548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79280" y="189000"/>
            <a:ext cx="396108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Se la via diventa lunga, vegli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492360" y="5877000"/>
            <a:ext cx="5364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State in piedi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403280" y="1052640"/>
            <a:ext cx="6048360" cy="5047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ignore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cammina con noi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in questa VIA dell’avvento, e a NATAL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ci incontrerem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in un modo NUOVO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benedictinescat.com/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o pps è stato ridotto di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VANGELO DI LU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ci accompagnerà questo ann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0920" y="2637000"/>
            <a:ext cx="856908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l Regno è in mezzo a noi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gliate e pregate in ogni occas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n abbiate paura, piccolo gregge 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i manifesta ai picco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utto quello che è mio è tu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l Padre ama TUTTI i figli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ieri basilar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etjades cam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981080" y="0"/>
            <a:ext cx="57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10"/>
                </a:solidFill>
                <a:latin typeface="Arial Black"/>
              </a:rPr>
              <a:t>AVVENTO  Anno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95280" y="762120"/>
            <a:ext cx="84247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UN CAM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00000" y="2565360"/>
            <a:ext cx="7559640" cy="3933360"/>
          </a:xfrm>
          <a:prstGeom prst="rect">
            <a:avLst/>
          </a:prstGeom>
          <a:solidFill>
            <a:srgbClr val="cc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ENICA 1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minare vigilando per stare in piedi nel giorno della sua ven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ENIC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eparare la via con Giovanni Bat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ENIC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 viene a noi per trovar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ENICA 4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miniamo con Maria per Visitar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6" descr="125TombeGeneraleBigw"/>
          <p:cNvPicPr/>
          <p:nvPr/>
        </p:nvPicPr>
        <p:blipFill>
          <a:blip r:embed="rId1"/>
          <a:stretch/>
        </p:blipFill>
        <p:spPr>
          <a:xfrm>
            <a:off x="-5365800" y="50760"/>
            <a:ext cx="19946880" cy="678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5"/>
          <p:cNvSpPr/>
          <p:nvPr/>
        </p:nvSpPr>
        <p:spPr>
          <a:xfrm>
            <a:off x="755640" y="5904000"/>
            <a:ext cx="381636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gli viene a trovarc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6"/>
          <p:cNvSpPr/>
          <p:nvPr/>
        </p:nvSpPr>
        <p:spPr>
          <a:xfrm>
            <a:off x="6948360" y="333360"/>
            <a:ext cx="1800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Tombe del I se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66 -0.01202 L 0.62621 0.00879 E">
                                      <p:cBhvr>
                                        <p:cTn id="53" dur="14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0"/>
          <p:cNvSpPr/>
          <p:nvPr/>
        </p:nvSpPr>
        <p:spPr>
          <a:xfrm>
            <a:off x="395280" y="549360"/>
            <a:ext cx="8353440" cy="48956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21,25-28.34-36 </a:t>
            </a:r>
            <a:r>
              <a:rPr b="1" lang="it-IT" sz="3500" spc="-1" strike="noStrike">
                <a:solidFill>
                  <a:srgbClr val="ffffff"/>
                </a:solidFill>
                <a:latin typeface="Arial Unicode MS"/>
              </a:rPr>
              <a:t>«Vi saranno segni nel sole, nella luna e nelle stelle, e sulla terra angoscia di popoli in ansia per il fragore del mare e dei flutti, mentre gli uomini moriranno per la paura e per l’attesa di ciò che dovrà accadere sulla terra. Le potenze dei cieli infatti saranno sconvol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611280" y="6093000"/>
            <a:ext cx="784836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Immagini del Cedron. Sotto: tombe eb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6" descr="13tombaeleonaPaterBigtw"/>
          <p:cNvPicPr/>
          <p:nvPr/>
        </p:nvPicPr>
        <p:blipFill>
          <a:blip r:embed="rId1"/>
          <a:stretch/>
        </p:blipFill>
        <p:spPr>
          <a:xfrm>
            <a:off x="216000" y="333360"/>
            <a:ext cx="8820000" cy="640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79280" y="189000"/>
            <a:ext cx="4826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Vivrete sconcertati e in an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132000" y="5357880"/>
            <a:ext cx="5977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Quando tutto è sconvolto, tutto rinas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7"/>
          <p:cNvSpPr/>
          <p:nvPr/>
        </p:nvSpPr>
        <p:spPr>
          <a:xfrm>
            <a:off x="324000" y="5205240"/>
            <a:ext cx="2160360" cy="14644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Sepolcri antichi di </a:t>
            </a:r>
            <a:br>
              <a:rPr sz="3000"/>
            </a:b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leo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11280" y="907920"/>
            <a:ext cx="7848360" cy="5045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Arial Unicode MS"/>
              </a:rPr>
              <a:t>Allora vedranno il Figlio dell’uomo venire su una nube con grande potenza e gloria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3" descr="resized_cristsinai"/>
          <p:cNvPicPr/>
          <p:nvPr/>
        </p:nvPicPr>
        <p:blipFill>
          <a:blip r:embed="rId1"/>
          <a:stretch/>
        </p:blipFill>
        <p:spPr>
          <a:xfrm>
            <a:off x="250920" y="260280"/>
            <a:ext cx="6781680" cy="6116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9"/>
          <p:cNvSpPr/>
          <p:nvPr/>
        </p:nvSpPr>
        <p:spPr>
          <a:xfrm>
            <a:off x="6012000" y="189000"/>
            <a:ext cx="2987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Avrete il mio pot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1258920" y="5357880"/>
            <a:ext cx="78138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Anche se non vi rendete conto, 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lo Spirito è in v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404640"/>
            <a:ext cx="9144000" cy="83826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800" spc="-1" strike="noStrike">
                <a:solidFill>
                  <a:srgbClr val="ffffff"/>
                </a:solidFill>
                <a:latin typeface="Arial Unicode MS"/>
              </a:rPr>
              <a:t>Quando cominceranno ad accadere queste cose, risollevatevi e alzate il capo, perché la vostra liberazione è vicina».</a:t>
            </a:r>
            <a:r>
              <a:rPr b="0" lang="it-IT" sz="6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Cesarina</cp:lastModifiedBy>
  <dcterms:modified xsi:type="dcterms:W3CDTF">2009-11-23T20:36:20Z</dcterms:modified>
  <cp:revision>301</cp:revision>
  <dc:subject>stbenet@benedictinescat.com</dc:subject>
  <dc:title>evangeli</dc:title>
</cp:coreProperties>
</file>